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871A-07B4-4AC2-AAFF-2FDE32EB648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D5FB-EE39-4DC8-8574-1A198635232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7C5B-F444-4A7E-A6E5-CB238B95F83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2BED-0FA9-44B3-B25C-8646786BFA3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245-3D3D-49BB-9E53-E548C56295B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D4AD-2503-4D8A-BAD2-B79ACA28246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0500-376C-4DD6-912C-E0E04D1798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6156-2393-4FF5-BD80-E2EB4B8B3F7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A6AE-68A5-4B05-BF1A-C8304F3046B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E0D3-5236-46BD-8F5F-8E0E0C5A8BE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C242E-302A-4E45-A834-F7458742E66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D35F-F0B7-46DC-B8C4-993371167F1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498-2EAD-4FCE-80C5-F4D7D73993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3B91-914D-418F-9268-F39E635D792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A827-751D-4481-9B7F-E7ACDD1D76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88FC-E05E-40E4-BF99-1160D93237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2E41-5930-483F-B605-2732F358F40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A3F2-DBC4-46FA-AE40-8238BFFACF1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2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14680" y="142560"/>
            <a:ext cx="6357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6434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429000"/>
            <a:ext cx="7000560" cy="25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14320" y="285480"/>
            <a:ext cx="71434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18T10:46:54Z</dcterms:modified>
  <cp:revision>257</cp:revision>
  <dc:subject/>
  <dc:title>Snímek 1</dc:title>
</cp:coreProperties>
</file>